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12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FC9-AB9D-4F25-8B72-F326F509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2D0-1191-4721-9F3E-9D28BE6E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238-E988-4177-9760-18C02EC9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D8A-4A9E-4BB9-AF51-5938D09C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35F6-FE83-4F8A-B6A6-BCBD055F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D1C6-D288-43FF-9461-82A0EDE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33CD-6068-414A-9A80-AA75FD0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8964-ABC7-4D2B-80F1-B3018C0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2382-179B-43B6-85A6-D49FD7A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14C-0533-4A98-B38B-DA78EB5E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DE9B-5E96-496D-876C-3070DA3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A81-11F3-419F-94E2-F5E00BB5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925-26DB-4415-9E97-AB078CC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6644-E60C-4C46-9C11-C720C71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9B0C-652C-4C20-8979-FAEBCA4D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96E0-A286-4C61-8BD8-20A47634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AAC1-B5BC-4D81-B07C-010B9E33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00-F330-4969-860F-553A8E3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E0F-6EEE-4B6D-A11A-EF3A2E56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F81-5E67-49C0-A5F1-518A5F6F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F74-C3CF-4A1D-9F97-55BEC99C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228-7907-492B-89BC-6E20B7E9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9FC-650A-4198-BAF3-FF18765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DE1-1637-4742-9025-89BF4B4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0F5-0140-4A83-8639-FE4087DC8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3A7B-A2E6-4F98-B7B5-BA9A559675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od fry-day-Day 1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ge 115, prob#58&amp;#62(hint do it now!!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ther question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can be positive or neg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if the force and the displacement are in the sam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if the force and the displacement are in the opposit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hen Work is Zero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cement is horizon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e is ver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 90°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41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Can Be Positive or Negati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is positive when lifting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would be negative if lowering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would still be upward, but the displacement would be down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00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Dissip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can be done by f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lost to friction by an object goes into heating both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nergy may be converted into 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w, the phrase “Work done by friction” will denote the effect of the friction processes on mechanical energy al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age 151,#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associated with the motion of an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y with the same units as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s related to kinetic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600200" y="2895480"/>
                <a:ext cx="1905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Kinetic Energy Theor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ork is done by a net force on an object and the only change in the object is its speed,(i.e. no vert.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 the work done is equal to the change in the object’s ki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will increase if work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will decrease if work is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600200" y="4267080"/>
          <a:ext cx="408456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267080"/>
                    <a:ext cx="40845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Kinetic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’s kinetic energy can also be thought of as the amount of work the moving object could do in coming to 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ving hammer has kinetic energy and can do work on the n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#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181480" y="1828800"/>
          <a:ext cx="31845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31845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wo general kinds of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nd energy associated with the force can be recov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conserv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s are generally dissipative and work done against it cannot easily be recov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orce is conservative if the work it does on an object moving between two points is independent of the path the objects take between the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ork depends only upon the initial and final positions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onservative force can ( and usually does), have a potential energy function associated with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conservative forc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energy is another way of looking at the work done by conservat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#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orce is nonconservative if the work it does on an object depends on the path taken by the object between its final and starting poi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nonconservat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etic friction, air drag, propul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#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ction as a Nonconservative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riction force is transformed from the kinetic energy of the object into a type of energy associated wit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s are warmer than they were before the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term used for the energy associated with an object’s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ction Depends on the Pa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ue path is shorter than the red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required is less on the blue path than on the red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ction depends on the path and so is a non-conserva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7037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energy is associated with the position of the object within som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energy is a property of the system, no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ystem is a collection of objects interacting via forces or processes that are internal to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very conservative force a potential energy function can be f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ng the difference of the function at any two points in an object’s path gives the negative of the work done by the force between those two points, (even I can’t get this crap quickly!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W = -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vitational Potential Energy is the energy associated with the relative position of an object in space near the Earth’s sur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interact with the earth through the gravitation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ly the potential energy is for the earth-objec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Gravitational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= m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Potential Energy are the same as those of Work and Ki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1600200" y="2590920"/>
                <a:ext cx="2743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it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105520" y="1854360"/>
            <a:ext cx="38242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Theorem, Extend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-energy theorem can b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exten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include potential ener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other conservative forces are present, potential energy functions can be developed for them and their change in that potential energy added to the right side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W= total change in energy =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057400" y="2971800"/>
          <a:ext cx="56386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5638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ference Levels for Gravitational Potential Energy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cation where the gravitational potential energy is zero must be chosen for each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oice is arbitrary since the change in the potential energy is the important 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nvenient location for the zero reference h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the Earth’s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be some other point suggested by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position is chosen, it must remain fixed for the entir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echanic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rvation in ge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ay a physical quantity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erv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 say that the numerical value of the quantity remains constant throughout any physical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onservation of Energy, the total mechanical energy remain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 any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isolat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system of objects interacting only through conservative forces, the total mechanical energy of the system remains const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st example is body in freefal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#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ms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for 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kinetic (associated with motion) or potential (associated with posi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magne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Energ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mechanical energy is the sum of the kinetic and potential energies in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ypes of potential energy functions can be added to modify thi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905120" y="3429000"/>
                <a:ext cx="38098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location of zero gravitational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hange this location while solving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wo points the object of interest moves betw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oint should be where information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point should be where you want to find out some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that only conservative forces are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the conservation of energy equation to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diately substitute zero values, then do the algebra before substituting the other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With Non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nonconservative forces are present, then the full Work-Energy Theorem must be used instead of the equation for Conservation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techniques from previous chapters will need to be employ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#4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 Stored in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ring const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e’s Law gives the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- k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is the resto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is in the opposite direction of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depends  on how the spring was formed, the material it is made from, thickness of the wire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 in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astic Potenti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the work required to compress a spring from its equilibrium position to some final, arbitrary, position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981080" y="4267080"/>
                <a:ext cx="19814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Theorem Including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(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+ (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g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g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+ (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gravitational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elastic potential energy associated with a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will now be used to denote the total potential energy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Energy Including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E of the spring is added to both sides of the conservation of energy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ame problem-solving strategies app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600200" y="3581280"/>
                <a:ext cx="754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Nonconservative Forces with Energy Considerations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nonconservative forces are present, the total mechanical energy of the system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done by all nonconservative forces acting on parts of a system equals the change in the mechanical energy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1981080" y="5181480"/>
          <a:ext cx="308628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181480"/>
                    <a:ext cx="3086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conservative Forces and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quation for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an either cross a boundary or the energy is transformed into a form of non-mechanical energy such as therm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752480" y="2666880"/>
          <a:ext cx="61344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61344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Energy Conside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to the study of physics, chemistry, biology, geology, astr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in place of Newton’s laws to solve certain problems more simp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13 Happy Friday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work must be done to stop a 2500kg truck travelling at 120 km/h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as its acceleration if it stopped in 20 cm.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applying a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s a displacement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Object 5"/>
          <p:cNvGraphicFramePr/>
          <p:nvPr/>
        </p:nvGraphicFramePr>
        <p:xfrm>
          <a:off x="5145120" y="2093760"/>
          <a:ext cx="3809880" cy="32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93760"/>
                    <a:ext cx="380988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ransferring heat by collisions between molec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the spoon becomes hot because some of the KE of the molecules in the coffee is transferred to the molecules of the spoon as internal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5562720" y="1752480"/>
          <a:ext cx="271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271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isturbance propagates through a 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 sound, water, seis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5145120" y="2865600"/>
          <a:ext cx="380988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65600"/>
                    <a:ext cx="380988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by means of electrical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how energy enters any electrical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5145120" y="2801880"/>
          <a:ext cx="380988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01880"/>
                    <a:ext cx="38098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form of electromagnetic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, microwaves, radio wa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5257800" y="1905120"/>
          <a:ext cx="2685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05120"/>
                    <a:ext cx="2685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can neither create nor destroy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way of saying energy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total energy of the system does not remain constant, the energy must have crossed the boundary by some mecha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areas other than phys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w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also interested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which the energy transfer takes p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fined as this rate of energy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Watts (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2057400" y="3657600"/>
          <a:ext cx="245916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657600"/>
                    <a:ext cx="24591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2057400" y="5562720"/>
          <a:ext cx="23637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562720"/>
                    <a:ext cx="236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wer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Customary units are generally h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a conversion f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define units of work or energy in terms of units of pow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lowatt hours (kWh) are often used in electric b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 unit of energy, not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752480" y="3124080"/>
                <a:ext cx="41148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6</m:t>
                    </m:r>
                    <m:r>
                      <m:t xml:space="preserve"> 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er of 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int in the body at which all the mass may be considered to be concent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using mechanical energy, the change in potential energy is related to the change in height of the center of m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stick this in now????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a link between force and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done by a constant force on an object is defined as the product of the component of the force along the direction of displacement and the magnitude of the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Done by Varying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done by a variable force acting on an object that undergoes a displacement is equal to the area under the graph of F versus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Object 7"/>
          <p:cNvGraphicFramePr/>
          <p:nvPr/>
        </p:nvGraphicFramePr>
        <p:xfrm>
          <a:off x="5145120" y="2417760"/>
          <a:ext cx="3809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417760"/>
                    <a:ext cx="3809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ring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ing is slowly stretched from 0 to xm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 = ½kx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9"/>
          <p:cNvGraphicFramePr/>
          <p:nvPr/>
        </p:nvGraphicFramePr>
        <p:xfrm>
          <a:off x="1523880" y="3429000"/>
          <a:ext cx="358164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5816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4508640" y="3200400"/>
            <a:ext cx="45590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ring Exampl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is also equal to the area under the cur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case, the “curve” is a triang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½ B h gives W = ½ k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5, probs: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,7,11,14,17,21,22,2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8,32,35, 39,44,50,52,53,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 due tomor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ack due day after tomor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is the magnitude of the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 x is the magnitude of the object’s displa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angle betwe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447920" y="2057400"/>
                <a:ext cx="2895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7"/>
          <p:cNvGraphicFramePr/>
          <p:nvPr/>
        </p:nvGraphicFramePr>
        <p:xfrm>
          <a:off x="2057400" y="5638680"/>
          <a:ext cx="16002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638680"/>
                    <a:ext cx="1600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5105520" y="2297160"/>
            <a:ext cx="39621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gives no information ab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me it took for the displacement to occ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elocity or acceleration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s a scala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• meter = Jo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• m = 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J = kg •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/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US Custo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foo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• p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f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• l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o special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done by a force is zero when the force is perpendicular to the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 90°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re are multiple forces acting on an object, the total work done is the algebraic sum of the amount of work done by each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14:04:53Z</dcterms:created>
  <dc:creator>Marilyn Akins</dc:creator>
  <dc:description/>
  <dc:language>en-US</dc:language>
  <cp:lastModifiedBy>gandella</cp:lastModifiedBy>
  <dcterms:modified xsi:type="dcterms:W3CDTF">2009-09-11T15:35:30Z</dcterms:modified>
  <cp:revision>59</cp:revision>
  <dc:subject/>
  <dc:title>Chapter 5</dc:title>
</cp:coreProperties>
</file>